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B7E3-2072-4170-8C2D-53B6E9AD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ED7-FF7F-4C22-AD62-50156F89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583-4CE0-4DF9-9D4D-4565FD86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B03-C8BE-4A44-9B62-5BE44E48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E6F5-3069-4B81-8736-4EA645D5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24A9-B8E2-450F-ADA8-DDFA75FE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DF67-4049-4EFC-BD4B-71C1F74E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C1AC-0706-4E58-9400-48812E19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81EA-FF3F-4122-BE6D-B5945A5F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AE3C-D4EA-49A5-BA01-F03DC9B5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01E8-72C1-4ABE-81E4-982EE604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9F4-1445-4425-9D88-06810AEE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E187-56A2-41D0-8E4C-BF1A75F3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2F8C-F8D7-4BC8-950A-E49C69D6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3D2F-9AC7-4AA5-AC3D-3C50CA1B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FB21-B090-476D-B07B-F66BBD45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32A6-2AED-4B9F-91E9-AE71E169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24B-9E13-4B2D-A24B-14791205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7207-7496-4A75-8646-017BCFDD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FBE-EA22-422F-A12B-7473ED14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5DE-D763-4E97-904B-F4E6B06C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F415-96D4-4202-B123-B8AE9CD8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B34-92F5-47D8-B42E-09660CFC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B0A-BCAA-4551-BFA9-99A672E8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B11E-97AA-419F-97A6-78980267D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7685-DB91-4BED-8844-9B28EFE6C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sourceforge.net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Browse: Generic Genome Browser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y 2003 Upda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8080"/>
                </a:solidFill>
                <a:latin typeface="comic"/>
              </a:rPr>
              <a:t>Coming real soon now</a:t>
            </a:r>
            <a:endParaRPr b="0" lang="en-US" sz="8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Synteny Browser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726" t="26410" r="2073" b="11776"/>
          <a:stretch/>
        </p:blipFill>
        <p:spPr>
          <a:xfrm>
            <a:off x="228600" y="1752480"/>
            <a:ext cx="8769240" cy="439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2350" t="15911" r="4024" b="9518"/>
          <a:stretch/>
        </p:blipFill>
        <p:spPr>
          <a:xfrm>
            <a:off x="380880" y="1523880"/>
            <a:ext cx="853452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Feature Filtering &amp; Coloring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lter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imit feature displays to those matching selected attributes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lor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lor background of features matching selected attributes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Remote Annot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ull DAS Suppor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ultiple databases merged into one displa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ultiple database types merged onto displa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c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mo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lat fi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lation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50040" y="1523880"/>
            <a:ext cx="23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CSH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uly Av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cott C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98640" y="2895480"/>
            <a:ext cx="25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BDG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hris Mung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engQiang S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7720" y="5938920"/>
            <a:ext cx="1523880" cy="536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71520" y="5973840"/>
            <a:ext cx="43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http://www.gmod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152388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aul Edelf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Robert Hub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880" y="4375080"/>
            <a:ext cx="237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HGMP-RC Fug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awn Ho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6520" y="2927520"/>
            <a:ext cx="22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Else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Colis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Logg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8080"/>
                </a:solidFill>
                <a:latin typeface="comic"/>
              </a:rPr>
              <a:t>New Features</a:t>
            </a:r>
            <a:endParaRPr b="0" lang="en-US" sz="8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Database Adaptor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o::DB::GFF Sche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stgre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xt fi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do Sche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stgre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oSQL Sche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MBL Prox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Multiple Alignment Display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056" t="20835" r="2941" b="14584"/>
          <a:stretch/>
        </p:blipFill>
        <p:spPr>
          <a:xfrm>
            <a:off x="685800" y="1676520"/>
            <a:ext cx="8153280" cy="4724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2056" t="17742" r="2056" b="18819"/>
          <a:stretch/>
        </p:blipFill>
        <p:spPr>
          <a:xfrm>
            <a:off x="685800" y="167652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2056" t="17742" r="2941" b="12367"/>
          <a:stretch/>
        </p:blipFill>
        <p:spPr>
          <a:xfrm>
            <a:off x="685800" y="1676520"/>
            <a:ext cx="815328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Histograms &amp; XY Plot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620120" cy="2466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nfigurable Overview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945" t="28889" r="2830" b="13638"/>
          <a:stretch/>
        </p:blipFill>
        <p:spPr>
          <a:xfrm>
            <a:off x="609480" y="1905120"/>
            <a:ext cx="7772400" cy="3733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Flip Coordinate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405" t="28555" r="2752" b="24645"/>
          <a:stretch/>
        </p:blipFill>
        <p:spPr>
          <a:xfrm>
            <a:off x="233280" y="1897200"/>
            <a:ext cx="8645760" cy="3342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334" t="31069" r="2910" b="19112"/>
          <a:stretch/>
        </p:blipFill>
        <p:spPr>
          <a:xfrm>
            <a:off x="228600" y="1905120"/>
            <a:ext cx="8637480" cy="3558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Plugin Layer for Gene Predictor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2941" t="17742" r="3831" b="13444"/>
          <a:stretch/>
        </p:blipFill>
        <p:spPr>
          <a:xfrm>
            <a:off x="762120" y="1600200"/>
            <a:ext cx="800100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Lots of New Glyphs</a:t>
            </a: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plice acceptor/donor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icroarray red/green box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ytogenetic band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X/Y graph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Lincoln Stein</cp:lastModifiedBy>
  <cp:lastPrinted>1998-10-28T21:29:29Z</cp:lastPrinted>
  <dcterms:modified xsi:type="dcterms:W3CDTF">2003-05-06T11:16:38Z</dcterms:modified>
  <cp:revision>534</cp:revision>
  <dc:subject/>
  <dc:title>Training</dc:title>
</cp:coreProperties>
</file>